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840-0191-40B9-85AB-9539BD83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A3D-928C-4268-AF9A-B83F98F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337-F408-40CD-8AF1-6AFACDF0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6DC-679B-40BC-A8EF-F219C318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F66-3C14-4E92-A241-1B6E9AB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EBF-9B73-49D8-9820-FEC922A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BEA-0ABA-4C39-8626-F52A3FD9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A00-C4CF-4A01-BCD5-4A1C22E5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664-B6A1-4213-94CF-CFC7BD5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CB9-B1B6-4FE1-9013-D7B0F637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CA0-7D97-424A-A858-F3B4E63D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836-D506-4A85-ACF6-E5B3AAB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1C80-429C-419E-B0E3-27C08872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odel for MEMPH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M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.E Camp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d 20/06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pdated </a:t>
            </a:r>
            <a:fld id="{F86F3F18-5240-424A-A0E8-EC1294AA2A91}" type="datetime">
              <a:rPr b="0" lang="fr-FR" sz="3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45920" y="896760"/>
            <a:ext cx="1449720" cy="1177920"/>
            <a:chOff x="745920" y="896760"/>
            <a:chExt cx="1449720" cy="1177920"/>
          </a:xfrm>
        </p:grpSpPr>
        <p:sp>
          <p:nvSpPr>
            <p:cNvPr id="44" name=""/>
            <p:cNvSpPr/>
            <p:nvPr/>
          </p:nvSpPr>
          <p:spPr>
            <a:xfrm>
              <a:off x="75564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Dig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5920" y="1341360"/>
              <a:ext cx="14090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ffective # p.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 WCh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797920" y="896760"/>
            <a:ext cx="1544760" cy="1177920"/>
            <a:chOff x="2797920" y="896760"/>
            <a:chExt cx="1544760" cy="1177920"/>
          </a:xfrm>
        </p:grpSpPr>
        <p:sp>
          <p:nvSpPr>
            <p:cNvPr id="47" name=""/>
            <p:cNvSpPr/>
            <p:nvPr/>
          </p:nvSpPr>
          <p:spPr>
            <a:xfrm>
              <a:off x="28065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WCH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97920" y="1341360"/>
              <a:ext cx="15447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M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otal # p.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Ti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00680" y="896760"/>
            <a:ext cx="1444680" cy="1177920"/>
            <a:chOff x="4900680" y="896760"/>
            <a:chExt cx="1444680" cy="1177920"/>
          </a:xfrm>
        </p:grpSpPr>
        <p:sp>
          <p:nvSpPr>
            <p:cNvPr id="50" name=""/>
            <p:cNvSpPr/>
            <p:nvPr/>
          </p:nvSpPr>
          <p:spPr>
            <a:xfrm>
              <a:off x="490536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0680" y="1341360"/>
              <a:ext cx="43344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949440" y="896760"/>
            <a:ext cx="1604160" cy="1391040"/>
            <a:chOff x="6949440" y="896760"/>
            <a:chExt cx="1604160" cy="1391040"/>
          </a:xfrm>
        </p:grpSpPr>
        <p:sp>
          <p:nvSpPr>
            <p:cNvPr id="53" name=""/>
            <p:cNvSpPr/>
            <p:nvPr/>
          </p:nvSpPr>
          <p:spPr>
            <a:xfrm>
              <a:off x="6957720" y="896760"/>
              <a:ext cx="14400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49440" y="1341360"/>
              <a:ext cx="160416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DG 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5-momen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roduction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d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87000" y="2565360"/>
            <a:ext cx="1771920" cy="976320"/>
            <a:chOff x="6687000" y="2565360"/>
            <a:chExt cx="1771920" cy="976320"/>
          </a:xfrm>
        </p:grpSpPr>
        <p:sp>
          <p:nvSpPr>
            <p:cNvPr id="56" name=""/>
            <p:cNvSpPr/>
            <p:nvPr/>
          </p:nvSpPr>
          <p:spPr>
            <a:xfrm>
              <a:off x="6696000" y="2565360"/>
              <a:ext cx="176292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CParti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7000" y="3021480"/>
              <a:ext cx="1058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sPri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tart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92120" y="2565360"/>
            <a:ext cx="1774440" cy="1189800"/>
            <a:chOff x="4092120" y="2565360"/>
            <a:chExt cx="1774440" cy="1189800"/>
          </a:xfrm>
        </p:grpSpPr>
        <p:sp>
          <p:nvSpPr>
            <p:cNvPr id="59" name=""/>
            <p:cNvSpPr/>
            <p:nvPr/>
          </p:nvSpPr>
          <p:spPr>
            <a:xfrm>
              <a:off x="4103640" y="2565360"/>
              <a:ext cx="1762920" cy="45720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2120" y="3021840"/>
              <a:ext cx="16938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coming part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outgoing parti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6520" y="2421000"/>
            <a:ext cx="2518200" cy="764640"/>
            <a:chOff x="686520" y="2421000"/>
            <a:chExt cx="2518200" cy="764640"/>
          </a:xfrm>
        </p:grpSpPr>
        <p:sp>
          <p:nvSpPr>
            <p:cNvPr id="62" name=""/>
            <p:cNvSpPr/>
            <p:nvPr/>
          </p:nvSpPr>
          <p:spPr>
            <a:xfrm>
              <a:off x="700560" y="2421000"/>
              <a:ext cx="250416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Im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520" y="2878560"/>
              <a:ext cx="17121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ector of WCDig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5465880"/>
            <a:ext cx="1245960" cy="909000"/>
            <a:chOff x="539640" y="5465880"/>
            <a:chExt cx="1245960" cy="909000"/>
          </a:xfrm>
        </p:grpSpPr>
        <p:sp>
          <p:nvSpPr>
            <p:cNvPr id="66" name=""/>
            <p:cNvSpPr/>
            <p:nvPr/>
          </p:nvSpPr>
          <p:spPr>
            <a:xfrm>
              <a:off x="539640" y="5465880"/>
              <a:ext cx="12459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320" y="5854680"/>
              <a:ext cx="738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43280" y="4387680"/>
            <a:ext cx="1935000" cy="1122120"/>
            <a:chOff x="2843280" y="4387680"/>
            <a:chExt cx="1935000" cy="1122120"/>
          </a:xfrm>
        </p:grpSpPr>
        <p:sp>
          <p:nvSpPr>
            <p:cNvPr id="69" name=""/>
            <p:cNvSpPr/>
            <p:nvPr/>
          </p:nvSpPr>
          <p:spPr>
            <a:xfrm>
              <a:off x="2843280" y="438768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44720" y="4776480"/>
              <a:ext cx="14652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etNex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etIndex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43280" y="5821200"/>
            <a:ext cx="1935000" cy="695880"/>
            <a:chOff x="2843280" y="5821200"/>
            <a:chExt cx="1935000" cy="695880"/>
          </a:xfrm>
        </p:grpSpPr>
        <p:sp>
          <p:nvSpPr>
            <p:cNvPr id="72" name=""/>
            <p:cNvSpPr/>
            <p:nvPr/>
          </p:nvSpPr>
          <p:spPr>
            <a:xfrm>
              <a:off x="2843280" y="5821200"/>
              <a:ext cx="1935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ata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47240" y="6210000"/>
              <a:ext cx="720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81720" y="4821120"/>
            <a:ext cx="1935360" cy="1122120"/>
            <a:chOff x="6381720" y="4821120"/>
            <a:chExt cx="1935360" cy="1122120"/>
          </a:xfrm>
        </p:grpSpPr>
        <p:sp>
          <p:nvSpPr>
            <p:cNvPr id="76" name=""/>
            <p:cNvSpPr/>
            <p:nvPr/>
          </p:nvSpPr>
          <p:spPr>
            <a:xfrm>
              <a:off x="6381720" y="4821120"/>
              <a:ext cx="193536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85320" y="5209920"/>
              <a:ext cx="7689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as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visi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a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28880" y="4286160"/>
            <a:ext cx="1956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enScientist li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6880" y="333360"/>
            <a:ext cx="1843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HY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4421160"/>
            <a:ext cx="180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MPHYS 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7960" y="3284640"/>
            <a:ext cx="2228040" cy="764640"/>
            <a:chOff x="687960" y="3284640"/>
            <a:chExt cx="2228040" cy="764640"/>
          </a:xfrm>
        </p:grpSpPr>
        <p:sp>
          <p:nvSpPr>
            <p:cNvPr id="82" name=""/>
            <p:cNvSpPr/>
            <p:nvPr/>
          </p:nvSpPr>
          <p:spPr>
            <a:xfrm>
              <a:off x="698760" y="3284640"/>
              <a:ext cx="221724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erenkov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7960" y="3742200"/>
              <a:ext cx="90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4149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8680" y="4387680"/>
            <a:ext cx="5457600" cy="1502280"/>
            <a:chOff x="328680" y="4387680"/>
            <a:chExt cx="5457600" cy="1502280"/>
          </a:xfrm>
        </p:grpSpPr>
        <p:sp>
          <p:nvSpPr>
            <p:cNvPr id="87" name=""/>
            <p:cNvSpPr/>
            <p:nvPr/>
          </p:nvSpPr>
          <p:spPr>
            <a:xfrm>
              <a:off x="3132000" y="4618080"/>
              <a:ext cx="124632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ase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4618080"/>
              <a:ext cx="1143000" cy="368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IStor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328680" y="4387680"/>
              <a:ext cx="1646280" cy="1425600"/>
              <a:chOff x="328680" y="4387680"/>
              <a:chExt cx="1646280" cy="1425600"/>
            </a:xfrm>
          </p:grpSpPr>
          <p:sp>
            <p:nvSpPr>
              <p:cNvPr id="90" name=""/>
              <p:cNvSpPr/>
              <p:nvPr/>
            </p:nvSpPr>
            <p:spPr>
              <a:xfrm>
                <a:off x="328680" y="4387680"/>
                <a:ext cx="164628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I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8920" y="5445000"/>
                <a:ext cx="1584360" cy="36828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DataServic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1152360" y="472428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168360" y="5432400"/>
              <a:ext cx="1171800" cy="457560"/>
            </a:xfrm>
            <a:prstGeom prst="flowChartInternalStora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3" idx="3"/>
              <a:endCxn id="88" idx="2"/>
            </p:cNvCxnSpPr>
            <p:nvPr/>
          </p:nvCxnSpPr>
          <p:spPr>
            <a:xfrm flipV="1">
              <a:off x="4325760" y="4994280"/>
              <a:ext cx="889920" cy="660600"/>
            </a:xfrm>
            <a:prstGeom prst="bentConnector2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3" idx="0"/>
              <a:endCxn id="87" idx="2"/>
            </p:cNvCxnSpPr>
            <p:nvPr/>
          </p:nvCxnSpPr>
          <p:spPr>
            <a:xfrm flipV="1">
              <a:off x="3754440" y="4993560"/>
              <a:ext cx="2160" cy="438840"/>
            </a:xfrm>
            <a:prstGeom prst="straightConnector1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87" idx="1"/>
              <a:endCxn id="90" idx="3"/>
            </p:cNvCxnSpPr>
            <p:nvPr/>
          </p:nvCxnSpPr>
          <p:spPr>
            <a:xfrm rot="10800000">
              <a:off x="1974960" y="4575960"/>
              <a:ext cx="1157400" cy="231120"/>
            </a:xfrm>
            <a:prstGeom prst="curvedConnector5">
              <a:avLst>
                <a:gd name="adj1" fmla="val 49937"/>
                <a:gd name="adj2" fmla="val 49921"/>
                <a:gd name="adj3" fmla="val 49937"/>
              </a:avLst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6372360" y="4437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6720" y="4168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479736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90360" y="4529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54360" y="50324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: « many »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C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05360" y="1244520"/>
            <a:ext cx="144000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58080" y="1244520"/>
            <a:ext cx="143964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463680"/>
            <a:ext cx="176364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C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04000" y="2408400"/>
            <a:ext cx="140472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2257560"/>
            <a:ext cx="25048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2" idx="3"/>
            <a:endCxn id="103" idx="1"/>
          </p:cNvCxnSpPr>
          <p:nvPr/>
        </p:nvCxnSpPr>
        <p:spPr>
          <a:xfrm>
            <a:off x="2222640" y="1466640"/>
            <a:ext cx="5846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0" name=""/>
          <p:cNvCxnSpPr>
            <a:stCxn id="103" idx="3"/>
            <a:endCxn id="104" idx="1"/>
          </p:cNvCxnSpPr>
          <p:nvPr/>
        </p:nvCxnSpPr>
        <p:spPr>
          <a:xfrm>
            <a:off x="4246560" y="1466640"/>
            <a:ext cx="65952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1" name=""/>
          <p:cNvCxnSpPr>
            <a:stCxn id="105" idx="1"/>
            <a:endCxn id="104" idx="3"/>
          </p:cNvCxnSpPr>
          <p:nvPr/>
        </p:nvCxnSpPr>
        <p:spPr>
          <a:xfrm rot="10800000">
            <a:off x="6344640" y="1466280"/>
            <a:ext cx="61344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714000" y="106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05" idx="0"/>
          </p:cNvCxnSpPr>
          <p:nvPr/>
        </p:nvCxnSpPr>
        <p:spPr>
          <a:xfrm rot="5400000">
            <a:off x="7513920" y="1072080"/>
            <a:ext cx="33732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"/>
          <p:cNvCxnSpPr>
            <a:stCxn id="107" idx="0"/>
            <a:endCxn id="104" idx="2"/>
          </p:cNvCxnSpPr>
          <p:nvPr/>
        </p:nvCxnSpPr>
        <p:spPr>
          <a:xfrm flipV="1" rot="16200000">
            <a:off x="5756400" y="1557720"/>
            <a:ext cx="720000" cy="98172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" name=""/>
          <p:cNvCxnSpPr>
            <a:stCxn id="107" idx="0"/>
            <a:endCxn id="105" idx="2"/>
          </p:cNvCxnSpPr>
          <p:nvPr/>
        </p:nvCxnSpPr>
        <p:spPr>
          <a:xfrm flipH="1" flipV="1" rot="5400000">
            <a:off x="6782760" y="1512360"/>
            <a:ext cx="720000" cy="1072440"/>
          </a:xfrm>
          <a:prstGeom prst="curvedConnector5">
            <a:avLst>
              <a:gd name="adj1" fmla="val 49874"/>
              <a:gd name="adj2" fmla="val 50000"/>
              <a:gd name="adj3" fmla="val 4987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6" name=""/>
          <p:cNvCxnSpPr>
            <a:stCxn id="107" idx="3"/>
            <a:endCxn id="105" idx="3"/>
          </p:cNvCxnSpPr>
          <p:nvPr/>
        </p:nvCxnSpPr>
        <p:spPr>
          <a:xfrm flipV="1">
            <a:off x="7308360" y="1466640"/>
            <a:ext cx="1089720" cy="1164240"/>
          </a:xfrm>
          <a:prstGeom prst="curvedConnector5">
            <a:avLst>
              <a:gd name="adj1" fmla="val 120984"/>
              <a:gd name="adj2" fmla="val 49984"/>
              <a:gd name="adj3" fmla="val 120984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7453440" y="26179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0"/>
            <a:endCxn id="102" idx="2"/>
          </p:cNvCxnSpPr>
          <p:nvPr/>
        </p:nvCxnSpPr>
        <p:spPr>
          <a:xfrm flipV="1">
            <a:off x="1503000" y="1688760"/>
            <a:ext cx="1080" cy="56880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1694160" y="198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3271680"/>
            <a:ext cx="2160720" cy="45756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renkovC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0"/>
            <a:endCxn id="108" idx="2"/>
          </p:cNvCxnSpPr>
          <p:nvPr/>
        </p:nvCxnSpPr>
        <p:spPr>
          <a:xfrm flipV="1">
            <a:off x="1503000" y="2701080"/>
            <a:ext cx="1080" cy="57060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20" idx="3"/>
            <a:endCxn id="104" idx="2"/>
          </p:cNvCxnSpPr>
          <p:nvPr/>
        </p:nvCxnSpPr>
        <p:spPr>
          <a:xfrm flipV="1">
            <a:off x="2582640" y="1688760"/>
            <a:ext cx="3043800" cy="180576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77000" y="333360"/>
            <a:ext cx="1547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41280" y="6259680"/>
            <a:ext cx="148680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20296"/>
              <a:gd name="adj5" fmla="val -96481"/>
              <a:gd name="adj6" fmla="val -25268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2560" y="539280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&lt;class&gt;: Pur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29:39Z</dcterms:created>
  <dc:creator>J.E Campagne</dc:creator>
  <dc:description/>
  <dc:language>en-US</dc:language>
  <cp:lastModifiedBy>J.E Campagne</cp:lastModifiedBy>
  <dcterms:modified xsi:type="dcterms:W3CDTF">2007-06-20T09:17:25Z</dcterms:modified>
  <cp:revision>11</cp:revision>
  <dc:subject/>
  <dc:title>Data Model for MEMPHYS DMM package</dc:title>
</cp:coreProperties>
</file>